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448-6C0D-4A31-88CA-1C7A263E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02E-13A4-4136-AFFD-390BC6B0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96C-E822-46EB-A087-64E4D8EA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794-FA78-4E3A-8074-699D63CC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38D8-58FB-45D2-AE9A-EB95C7B1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313-A810-4BA1-B4BF-706A9940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F4C3-C4A8-4EB4-90F8-BBF35BF2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6F83-C1C9-4871-9BED-98A3B28A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894C-B096-4AB7-B5EE-E7B464E1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D4C2-F505-421A-9454-7ECA5949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3866-A26B-4293-AF47-4127AFA4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E4BE-89C3-46CC-B215-6DC80CBF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CE05-E8D2-4E4E-88A3-7B13CD93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80C8-5DA1-4199-A26C-6B8C69F0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0321-E903-4644-B50E-0EFC8E26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AB32-6046-4753-92C4-C85D72AC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FB38-74E5-4E83-AE72-68E7B5F6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9D8D8-4905-4D78-B9EC-F71929C5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5B205-64B9-4CA4-A79B-CD7A36D5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D2C1C-0232-4D1E-89BA-E699BDD0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5BBDA-2B4D-4F63-8F0E-C69305F1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A733C-C6BF-4941-9396-67FDD27B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15D-1568-4310-BFC9-2FD9225B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ED6BA-F367-4423-B5A9-2BBD4963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5A3D6-91CB-455A-AEA3-A7062016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A4EDF-5A35-4A8B-A944-DB7A192C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3064B-9280-4E6D-91BF-8B8FD99B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92E5F-8C5F-4A42-9D65-48DAFCF8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96012-D9BF-4667-9863-C5DAD179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BCD49-8D80-4BFE-8367-3330A08E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ED363-4A03-4E15-9B2D-A105411F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47085-BE02-4B48-B42A-E490DC75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9C5BC-0CC9-4C0D-ACF2-21D25D51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132D-127F-4A18-AECB-9B161BB2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76F7-372A-4F83-A472-519C9A38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628B0-0665-4D0A-ACA3-044340C7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89404-D759-4ED0-A398-E28D2F57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AC22D-7899-49A5-AB7A-D502F877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F10A-D2C8-4359-A57D-916033F2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AA2E0-4E48-4ECA-AEBF-33ADD977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AC81F-F751-475C-B00A-9038F43C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8733-C1B2-4408-BD35-BB18FC2A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5174-F28A-455C-A823-2B36B8F4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8F0DE-1641-47BA-B053-9102534D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107-A9F3-4E49-9C22-F47AB3A9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511AC-5EB2-4DBF-9463-F13B1614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A0CE0-F4FD-4441-927A-E770C5E7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93B37-AB27-485C-9DCC-175A2318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2BE18-415B-47E3-B121-50BE695A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812EF-D479-46A4-B054-5ABD474C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B6729-82BB-4BA6-9026-911907C4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7463F-2B2D-4D36-A4AE-2102F27A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A347C-819A-4BED-9F85-34D4FA05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A8BE6-5C87-4B52-A1ED-D7A5A242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3022A-291B-4102-92F8-F595AE1B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584-5F71-4655-8A63-7E65AA0E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F3C82-77E3-4BCB-A355-FD082047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F1381-3604-4D66-9E88-5FA65A8C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47F0A-CA93-4298-A8C5-8FE96FE3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A1C2E-8FF7-4083-8988-184DC16A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B43BA-DAEF-4D3D-9406-B7E2CC67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05184-8AC9-4881-AD1F-14C99F47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E07A2-0AE8-418E-AA6B-2D622509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393BB-B6C0-466E-A889-FAE5C677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2C28D-8123-44CD-9F6B-A48E6931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AF8E6-0A6A-4119-9380-6751CB4D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9E8-BAB3-41D2-8D0E-B74757D5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64739-ECDE-4FD9-9A79-EA7134B5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9EBB4-B11B-4D3B-803D-3D545688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E6D7D-EC7E-4775-9851-3152EA7D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AC8DB-FFF8-417D-A60F-391E5715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4FFDC-2801-4F28-91A0-6E8134C5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72559-AEBB-4B35-BA1E-DDB0C932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773A1-4E7C-47FA-BA4B-42E78757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DBD4C-9906-48A7-99BE-09F0C86C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7FFCC-9DB8-40BD-8804-6A1DEA8D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0E6E3-6AFD-4DD6-B3CE-5D242223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DDD-8871-4B88-9D42-4C5C99F9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81C10-9249-47DF-9DA6-E475775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67A4B-E7C6-4728-BCFF-3002B3C7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EC64D-D349-4B22-B769-BC3E4D09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0537-0A77-4C92-BF73-3C843A4F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71C6B-D4AD-4B7B-9F6D-E2D9AB00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7120-480E-4780-A2D2-7464017F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E0FF-A3AF-4A0D-A1D9-9D7EA128FEBA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E0DE-8808-4E08-B89C-AA48F8EC79E7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0CFE-91A7-40D6-9C2B-26470D624782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6C4D-6A4F-4951-B186-2020FAB54280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EC81-8425-40E0-8F52-12C1917247A2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1A83-BAE6-40B8-9E6C-DC90C0650AD2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60A4-0C68-4F3D-BB72-EBEB8F508A97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5BF4-137C-4A4C-9A0D-CF7E4E88DA40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2D64-EFAA-4CED-97CD-3D4B78CE57BD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B7D8-7338-4EF5-9047-1A92F8CD69D2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0AD5-7A93-4F63-977F-567C0EEB9E44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410F-36CA-4667-8769-B7F3B476CE3C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CF95-A9A8-460A-9CF7-B2B4910CCED0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563B-BF77-4ABF-AFDC-E4DB5E705B2D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s.wikipedia.org/wiki/Myk&#243;zy" TargetMode="External"/><Relationship Id="rId2" Type="http://schemas.openxmlformats.org/officeDocument/2006/relationships/hyperlink" Target="http://www.wikiskripta.eu/index.php/Soor" TargetMode="External"/><Relationship Id="rId3" Type="http://schemas.openxmlformats.org/officeDocument/2006/relationships/hyperlink" Target="http://www.wikiskripta.eu/index.php/Kandid&#243;zy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Viry" TargetMode="External"/><Relationship Id="rId2" Type="http://schemas.openxmlformats.org/officeDocument/2006/relationships/hyperlink" Target="http://www.wikiskripta.eu/index.php/Bakterie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s.wikipedia.org/wiki/Virus" TargetMode="External"/><Relationship Id="rId2" Type="http://schemas.openxmlformats.org/officeDocument/2006/relationships/hyperlink" Target="http://www.youtube.com/watch?v=UEKS4w9bfJg" TargetMode="External"/><Relationship Id="rId3" Type="http://schemas.openxmlformats.org/officeDocument/2006/relationships/hyperlink" Target="http://www.youtube.com/watch?v=slUNawr-hro" TargetMode="External"/><Relationship Id="rId4" Type="http://schemas.openxmlformats.org/officeDocument/2006/relationships/hyperlink" Target="http://www.youtube.com/watch?v=Rpj0emEGShQ" TargetMode="External"/><Relationship Id="rId5" Type="http://schemas.openxmlformats.org/officeDocument/2006/relationships/hyperlink" Target="http://www.youtube.com/watch?v=8Csh94TGySQ" TargetMode="External"/><Relationship Id="rId6" Type="http://schemas.openxmlformats.org/officeDocument/2006/relationships/hyperlink" Target="http://www.youtube.com/watch?v=gU67pmAs5y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ibik.cz/reportaze/prostitutky_kena/index.html" TargetMode="External"/><Relationship Id="rId2" Type="http://schemas.openxmlformats.org/officeDocument/2006/relationships/hyperlink" Target="http://www.sibik.cz/reportaze/aids_odesa_ukrajina/index.html" TargetMode="External"/><Relationship Id="rId3" Type="http://schemas.openxmlformats.org/officeDocument/2006/relationships/hyperlink" Target="http://www.wikiskripta.eu/index.php/Ch&#345;ipka" TargetMode="External"/><Relationship Id="rId4" Type="http://schemas.openxmlformats.org/officeDocument/2006/relationships/hyperlink" Target="http://www.knowledgerush.com/kr/encyclopedia/Variola/" TargetMode="External"/><Relationship Id="rId5" Type="http://schemas.openxmlformats.org/officeDocument/2006/relationships/hyperlink" Target="http://www.wikiskripta.eu/index.php/Prav&#233;_ne&#353;tovice" TargetMode="External"/><Relationship Id="rId6" Type="http://schemas.openxmlformats.org/officeDocument/2006/relationships/hyperlink" Target="http://www.wikiskripta.eu/index.php/Plan&#233;_ne&#353;tovice" TargetMode="External"/><Relationship Id="rId7" Type="http://schemas.openxmlformats.org/officeDocument/2006/relationships/hyperlink" Target="http://www.hepatitis.cz/odpovedi.html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.wikipedia.org/wiki/Bakteri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ikiskripta.eu/index.php/Tuberkul&#243;za_%28patologie%29" TargetMode="External"/><Relationship Id="rId2" Type="http://schemas.openxmlformats.org/officeDocument/2006/relationships/hyperlink" Target="http://www.wikiskripta.eu/index.php/Syfilis" TargetMode="External"/><Relationship Id="rId3" Type="http://schemas.openxmlformats.org/officeDocument/2006/relationships/hyperlink" Target="http://www.wikiskripta.eu/index.php/Streptokokov&#233;_infekce" TargetMode="External"/><Relationship Id="rId4" Type="http://schemas.openxmlformats.org/officeDocument/2006/relationships/hyperlink" Target="http://www.wikiskripta.eu/index.php/Stafylokokov&#233;_infekce" TargetMode="External"/><Relationship Id="rId5" Type="http://schemas.openxmlformats.org/officeDocument/2006/relationships/hyperlink" Target="http://www.wikiskripta.eu/index.php/Mor" TargetMode="External"/><Relationship Id="rId6" Type="http://schemas.openxmlformats.org/officeDocument/2006/relationships/hyperlink" Target="http://www.wikiskripta.eu/index.php/Meningokokov&#233;_infekce" TargetMode="External"/><Relationship Id="rId7" Type="http://schemas.openxmlformats.org/officeDocument/2006/relationships/hyperlink" Target="http://www.wikiskripta.eu/index.php/Salmonel&#243;zy" TargetMode="External"/><Relationship Id="rId8" Type="http://schemas.openxmlformats.org/officeDocument/2006/relationships/hyperlink" Target="http://www.wikiskripta.eu/index.php/Shigel&#243;za" TargetMode="External"/><Relationship Id="rId9" Type="http://schemas.openxmlformats.org/officeDocument/2006/relationships/hyperlink" Target="http://www.wikiskripta.eu/index.php/Tetanus" TargetMode="External"/><Relationship Id="rId10" Type="http://schemas.openxmlformats.org/officeDocument/2006/relationships/hyperlink" Target="http://www.wikiskripta.eu/index.php/Rickettsi&#243;zy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900000" y="5310360"/>
            <a:ext cx="7128000" cy="15476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4920" y="188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ázev školy: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Střední zdravotnická škola a vyšší odborná škola zdravotnická Karlovy Var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dělávací materiál: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 Black"/>
              </a:rPr>
              <a:t>B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 Black"/>
              </a:rPr>
              <a:t>iologické příčiny onemocnění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VY_32_INOVACE_KLN.2.05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Datum tvorby:  9.11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.20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utor:</a:t>
            </a:r>
            <a:r>
              <a:rPr b="0" lang="cs-CZ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 Black"/>
              </a:rPr>
              <a:t>Veronika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Rausová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5 zahrnuje výklad pojmů: biologické příčiny onemocnění, viry a virové infekce, bakterie a příklady bakteriálních infekcí,  mykózy, parazitární infekce a oportunní infekce. K prezentaci je připojen seznam otázek k zopakování látky. Součástí setu je Test II. Shrnující kapitoly KLN.3.05a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Mykóz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působeny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Mikroskopickými houbami, plísněmi a kvasinkam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Moučnivka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www.wikiskripta.eu/index.php/Soor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Vaginální mykózy (kandidózy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Dermatomykóz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Orgánové (viscerální )mykóz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wikiskripta.eu/index.php/Kandid%C3%B3z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Dermatomyk%C3%B3z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arazitární onemocně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teré?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Tasemni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Roup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Malár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Škrkavky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http://www.wikiskripta.eu/index.php/Parazit%C3%A1rn%C3%AD_onemocn%C4%9Bn%C3%AD_GI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ffc800"/>
                </a:solidFill>
                <a:latin typeface="Corbel"/>
              </a:rPr>
              <a:t>Oportunní infekce</a:t>
            </a:r>
            <a:br>
              <a:rPr sz="4100"/>
            </a:b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to j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irové, bakteriální, parazitární i houbové infek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oč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stihují lidi s oslabenou imunitou (podvýživou, zhoubnými nádory, AIDS, vrozený deficit, stre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 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Co je virus?, jmenujte co nejvíce onemocnění způsobené viry a jejich příznak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Co je bakterie?, jmenujte co nejvíce onemocnění způsobené bakteriemi a jejich příznak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Co je mykóza?, jmenujte co nejvíce onemocnění způsobené houbami a kvasinkami a jejich příznak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Co je parazit?, jmenujte co nejvíce onemocnění způsobené parazity a jejich příznak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BIOLOGICKÉ PŘÍČINY ONEMOCNĚNÍ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Biologické příčiny nemocí =…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bakter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arazit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lísně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Vir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Co to je </a:t>
            </a:r>
            <a:r>
              <a:rPr b="0" lang="cs-CZ" sz="30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virus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=částice obsahující genetickou informaci schopné vstoupit do živých buněk a množit se v nich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Kudy vstupují do organismu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rbel"/>
              </a:rPr>
              <a:t>dýchacími cestami, poraněním, trávicím systémem, via sex, bodnutí hmyzem, transplacentárně, iatrogenně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Jak fungují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90000"/>
              </a:lnSpc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www.youtube.com/watch?v=UEKS4w9bfJg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90000"/>
              </a:lnSpc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youtube.com/watch?v=slUNawr-hro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90000"/>
              </a:lnSpc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http://www.youtube.com/watch?v=Rpj0emEGShQ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90000"/>
              </a:lnSpc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youtube.com/watch?v=8Csh94TGySQ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90000"/>
              </a:lnSpc>
              <a:spcBef>
                <a:spcPts val="4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00ff"/>
                </a:solidFill>
                <a:uFillTx/>
                <a:latin typeface="Corbel"/>
                <a:hlinkClick r:id="rId6"/>
              </a:rPr>
              <a:t>http://www.youtube.com/watch?v=gU67pmAs5yM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Virová onemocně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ějaké příklad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HIV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AIDS Jan Šibík Prostitutky z Kibery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Jan Šibík . AIDS Oděs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hřipka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wikiskripta.eu/index.php/Ch%C5%99ipk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Variola – pravé neštovice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http://www.knowledgerush.com/kr/encyclopedia/Variola/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wikiskripta.eu/index.php/Prav%C3%A9_ne%C5%A1tovic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Varicella – plané neštovice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6"/>
              </a:rPr>
              <a:t>http://www.wikiskripta.eu/index.php/Plan%C3%A9_ne%C5%A1tovic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7"/>
              </a:rPr>
              <a:t>Hepatitis a,b,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alší?..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Virová onemocně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akut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hronick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atent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virémi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řítomnost viru v krv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Bakteriální infek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Čím jsou způsoben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Bakteriemi </a:t>
            </a: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– aerobní, anaerobn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Jejich toxin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Důsledky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Zánět = normální průběh boje organismu s bakteriemi – hnisavý, katarální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Specifická Imunitní odpověď  (TBC, syfilis…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Alergická reak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Odolnost, produkce protiláte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Bakteriální infekce - příklad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TBC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wikiskripta.eu/index.php/Tuberkul%C3%B3za_%28patologie%29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Syfilis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www.wikiskripta.eu/index.php/Syfilis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Streptokokové infekce (angíny, spála, erysipel…)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wikiskripta.eu/index.php/Streptokokov%C3%A9_infekc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Stafylokokové infekce (abscesy v hlubokých tkáních)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http://www.wikiskripta.eu/index.php/Stafylokokov%C3%A9_infekc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Yersinia pestis (mor)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wikiskripta.eu/index.php/Mor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Meningokokové infekce (hnisavá leptomeningitis)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6"/>
              </a:rPr>
              <a:t>http://www.wikiskripta.eu/index.php/Meningokokov%C3%A9_infekce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Salmonely (břišní tyfus, paratyfus)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7"/>
              </a:rPr>
              <a:t>http://www.wikiskripta.eu/index.php/Salmonel%C3%B3z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Shigelly (bacilární enterotoxikózy, úplavice)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8"/>
              </a:rPr>
              <a:t>http://www.wikiskripta.eu/index.php/Shigel%C3%B3za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Anaerobní bakterie klostridia – tetanus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9"/>
              </a:rPr>
              <a:t>http://www.wikiskripta.eu/index.php/Tetanus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, plynatá sněť, ricketsie – skvrnitý tyfus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orbel"/>
                <a:hlinkClick r:id="rId10"/>
              </a:rPr>
              <a:t>http://www.wikiskripta.eu/index.php/Rickettsi%C3%B3zy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6:18:45Z</dcterms:created>
  <dc:creator>Veronika</dc:creator>
  <dc:description/>
  <dc:language>en-US</dc:language>
  <cp:lastModifiedBy>Chalupna</cp:lastModifiedBy>
  <dcterms:modified xsi:type="dcterms:W3CDTF">2014-03-31T20:43:40Z</dcterms:modified>
  <cp:revision>13</cp:revision>
  <dc:subject/>
  <dc:title>Snímek 1</dc:title>
</cp:coreProperties>
</file>